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9F26-CB3B-4B9D-A725-D1D3CE94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C16-DFBD-4943-BFFB-5FFED269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809-E5E0-406D-92A4-95BBA478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B0F-28EC-4A1E-A909-D35D3FD3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6A91-23A0-4067-AF0D-1CCACA74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7F9-9BBA-44C3-A7A1-844BDB5C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778-9D1A-425C-9823-C2341E66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C3B-503F-4F11-8075-A95E9F1A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EA0B-CA51-4610-9780-FE3DEF47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9CE6-DACC-4D2E-80EB-520FDF8C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1E9-FE60-47D3-84CD-052D04E1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715-BB8F-4EBF-B213-97CBD907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0266-3179-418C-B641-BB88E3F63BA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196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žišových šľapaja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ovi stále slúžiť bud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ím pôjd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ňom ten správ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tia smer nájsť môžem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žišových šľapaj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ísť chc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e neho verne pracov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ho pomoc smel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úfať smi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žeme vždy naň sa spolieh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ovi stále slúžiť bud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ím pôjd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ňom ten správ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tia smer nájsť môž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my o tom hovorí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k hriešny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sa skláňa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ého, kto príde k nemu, pri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a svoj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dať všetkým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ovi stále slúžiť bud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ím pôjd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ňom ten správ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tia smer nájsť môž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pravovať jemu cestu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druhý príchod zvestov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to z lásky k blížnym vykon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mohol z nás sa rad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0:39:54Z</dcterms:modified>
  <cp:revision>20</cp:revision>
  <dc:subject/>
  <dc:title>Je veľký náš Pán, on slávy je Kráľ Nech do všetkých strán  spev vrúcnych znie chvál.</dc:title>
</cp:coreProperties>
</file>